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CFFD0-0BF6-4944-9461-DC9A2917B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90722-45D5-4B7F-AE01-F0D389079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796CD-1751-4D31-BA11-7E431E2D2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33A13-9F5B-4DA4-B753-BA4E42B6F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5D1413-C3B0-4C3F-98FF-7A62A4E425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E4ABA-39CC-4BB4-B39D-CB1E1A3FD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91A25-60CD-4DA8-902B-F0D0C42CC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81A47-FA2F-4C4A-B99B-1449BF5CE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CB7826-AF97-4A71-9027-7E4EB0601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37D42-61FE-4347-80F3-2FC0FC20D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A05E9-A4CF-4C86-BAEE-182090242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3B986-6CC7-49B2-9902-6AE25CA93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F373D-E5C5-4962-AA30-312A41669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ECAF7-8314-48AB-A6B3-008A6299E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314AC-48CC-43D8-8752-A188D00E8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6599FE-F4AD-4810-BE37-E53333A481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75757A-106B-4D84-86F3-4591C48271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D5E70-3BAA-4111-BF6E-2608B3D71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EBE15-4D9A-45CC-A2A7-8DFC9B9ED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6C554-346A-4072-95FA-B7D637533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72CF1-50CA-4B30-9048-D401459F8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494E3-7966-4AD3-B22F-6369D151E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7CE1E-2461-4320-8320-7AD653182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9C0D2-7899-4F28-A833-18630297B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C60E0-C333-4A46-BA0C-CA2B6BF1549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5B7CF-6068-481B-892E-A91F89F6C50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37124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icrobes: Friend or Foe</a:t>
            </a:r>
            <a:endParaRPr b="0" lang="en-US" sz="4400" spc="-1" strike="noStrike">
              <a:solidFill>
                <a:srgbClr val="ffcc66"/>
              </a:solidFill>
              <a:latin typeface="Arial"/>
            </a:endParaRPr>
          </a:p>
        </p:txBody>
      </p:sp>
      <p:sp>
        <p:nvSpPr>
          <p:cNvPr id="89" name="PlaceHolder 2"/>
          <p:cNvSpPr>
            <a:spLocks noGrp="1"/>
          </p:cNvSpPr>
          <p:nvPr>
            <p:ph type="subTitle"/>
          </p:nvPr>
        </p:nvSpPr>
        <p:spPr>
          <a:xfrm>
            <a:off x="0" y="3123720"/>
            <a:ext cx="9144000" cy="25909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than Cu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duce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C9733-B26E-4750-B0AF-A6EC3473CBAD}" type="datetime2">
              <a:rPr b="0" lang="en-US" sz="3200" spc="-1" strike="noStrike">
                <a:solidFill>
                  <a:srgbClr val="ffffff"/>
                </a:solidFill>
                <a:latin typeface="Times New Roman"/>
              </a:rPr>
              <a:t>Thursday, July 30, 2026</a:t>
            </a:fld>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urpose</a:t>
            </a:r>
            <a:endParaRPr b="0" lang="en-US" sz="4400" spc="-1" strike="noStrike">
              <a:solidFill>
                <a:srgbClr val="ffcc66"/>
              </a:solidFill>
              <a:latin typeface="Arial"/>
            </a:endParaRPr>
          </a:p>
        </p:txBody>
      </p:sp>
      <p:sp>
        <p:nvSpPr>
          <p:cNvPr id="91" name="PlaceHolder 2"/>
          <p:cNvSpPr>
            <a:spLocks noGrp="1"/>
          </p:cNvSpPr>
          <p:nvPr>
            <p:ph/>
          </p:nvPr>
        </p:nvSpPr>
        <p:spPr>
          <a:xfrm>
            <a:off x="685800" y="12952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fter the movie, the people in the audience will be able to know the basic things about cells and their impact on our lives and the lives of people before us. I believe that this can be accomplished by examples of bacteria in our lives today and in the past, and what major things they di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utline Your Idea</a:t>
            </a:r>
            <a:endParaRPr b="0" lang="en-US" sz="4400" spc="-1" strike="noStrike">
              <a:solidFill>
                <a:srgbClr val="ffcc66"/>
              </a:solidFill>
              <a:latin typeface="Arial"/>
            </a:endParaRPr>
          </a:p>
        </p:txBody>
      </p:sp>
      <p:sp>
        <p:nvSpPr>
          <p:cNvPr id="93" name="PlaceHolder 2"/>
          <p:cNvSpPr>
            <a:spLocks noGrp="1"/>
          </p:cNvSpPr>
          <p:nvPr>
            <p:ph/>
          </p:nvPr>
        </p:nvSpPr>
        <p:spPr>
          <a:xfrm>
            <a:off x="685800" y="129528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 would start with an introduction to the world of bacteria, giving them a view of how they work, and would give a few examples of the many different environment they reside in. Next, I would show them the harmful effects and such, like the effects of the black death (Bubonic Plague) Leprosy, and other, more common diseases. Then, I would show the good side to bacteria, like how it helps the body, or how it makes specific products and helps the environme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usiness Model</a:t>
            </a:r>
            <a:endParaRPr b="0" lang="en-US" sz="4400" spc="-1" strike="noStrike">
              <a:solidFill>
                <a:srgbClr val="ffcc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video will make money by being sold to elementary-middle school science labs for young students to earn about microbe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will be different because my video would show the distinct comparison between good and bad bacter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20:51:58Z</dcterms:created>
  <dc:creator/>
  <dc:description/>
  <dc:language>en-US</dc:language>
  <cp:lastModifiedBy>City School</cp:lastModifiedBy>
  <dcterms:modified xsi:type="dcterms:W3CDTF">2013-02-20T19:00:01Z</dcterms:modified>
  <cp:revision>39</cp:revision>
  <dc:subject/>
  <dc:title>The Pitch-Then-Plan Business Planning Template</dc:title>
</cp:coreProperties>
</file>